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8EFB-DCCA-4A9E-9D29-C34A680318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978-12B1-4570-BC32-D931147D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08C-4A33-43E3-8864-524616D9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32E-8517-4D18-AB3E-90DC258E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398-7A4E-45EF-A629-63700C45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B73F-545B-4B50-AF96-EA6214CC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27CC-AE73-4154-927D-8DDD28C5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EB0D-57A1-46C2-8E04-49C12992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794E-5382-4491-81A1-6BB1F127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7A17-286F-48D2-8A07-CB56C23C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7081-D636-4D92-88B7-23268D2C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5B23-B91E-491D-B8FA-FFDCBB7E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1C1-F109-4556-84EF-F5D8373F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A925-8D51-432B-84E1-342829E5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8A13-81DA-4169-BE80-859E136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C9C9-4EA1-4C78-B436-F8B5DD1D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606B-F948-4E83-A917-78FF237F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2021-1506-493A-84B9-EF0C23A0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712-56DF-4AF5-BAA6-97BE1A02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480-0965-4434-AF13-E1A94291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CDA-E8FC-4C93-9975-BB2EC911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9F2-BA2B-421B-B2DD-F17D503C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CCD-5B62-42EA-9581-D4DCDFB7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981-D9C9-4BFE-8CFC-03B799F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6D4-CE15-4FF7-A251-AD2E01AD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11D7-CF1C-4109-994D-956A6E61C8B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6C08-3C5C-4CE6-92D5-52296A55E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cc"/>
                </a:solidFill>
                <a:latin typeface="Verdana"/>
              </a:rPr>
              <a:t>Dihybrid Inheritanc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Verdana"/>
              </a:rPr>
              <a:t>Dihybrid inheritance refers to the simultaneous inheritance of two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Mendel’s experime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del investigated the inheritance of seed shape (round v wrinkled) and seed colour (green v yellow) at the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his monohybrid crosses he knew that round seeds were dominant to wrinkled seeds and yellow seeds were dominant to green see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Verdana"/>
              </a:rPr>
              <a:t>Results</a:t>
            </a: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plants with round x plants with wrinkl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and yellow seeds      and green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00% plants with round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66680" y="2438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ts with round x plants with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yellow seeds   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2 offsp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tal 556 seeds collected from F2 pla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15 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8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green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2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green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However, the ratio of dominant to recessive features is still 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Explanation of Mendel’s resul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round seeds be R and the allele for wrinkled seeds be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yellow seeds be Y and the allele for green seeds b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  Ph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und      x    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yellow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     green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rr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34340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9343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8487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4114800" y="5443560"/>
          <a:ext cx="320184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43560"/>
                    <a:ext cx="32018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h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, yellow seeds  x   round, yellow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       Rr 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5105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80773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75438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858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3244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19320" y="4419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Verdana"/>
              </a:rPr>
              <a:t>What are the genotypes and phenotypes of the F2 offspring and in what rat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6"/>
          <p:cNvGraphicFramePr/>
          <p:nvPr/>
        </p:nvGraphicFramePr>
        <p:xfrm>
          <a:off x="1789200" y="905040"/>
          <a:ext cx="564336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905040"/>
                    <a:ext cx="5643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F2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429000"/>
            <a:ext cx="8077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s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phenotypes   expected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4)   yellow,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2)  RrYY (2)  yellow, rou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Rryy (2)   roun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 rrYy (2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yellow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ing for statistical error, Mendel’s results were a reasonable approximation to the expected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9:3:3: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of a member of an allelic pair may combine randomly with either of another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est cross can be performed to check the possible genotypes of a plant producing round, yellow seeds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(RRYY, RrYY, RrYy, RRYy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y crossing the plants with a homozygous recessive plant with wrinkled green seeds genotype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rry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hat phenotypes and genotypes would the offspring possess from the 4 crosses, and in what rat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3:59Z</dcterms:created>
  <dc:creator>Angela Wall</dc:creator>
  <dc:description/>
  <dc:language>en-US</dc:language>
  <cp:lastModifiedBy>LEGION2</cp:lastModifiedBy>
  <cp:lastPrinted>2002-12-02T21:19:45Z</cp:lastPrinted>
  <dcterms:modified xsi:type="dcterms:W3CDTF">2016-01-12T10:19:10Z</dcterms:modified>
  <cp:revision>24</cp:revision>
  <dc:subject/>
  <dc:title>Dihybrid Inheritance</dc:title>
</cp:coreProperties>
</file>